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DBC-0C81-4587-B914-2589C6BF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4B3-1125-4ED7-804D-21F54C55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487-7375-4E8D-90D2-C9022C62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D06-E675-421E-98EA-1E301417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272-9AD5-4F6E-9B70-F17E929E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16C-6B95-4C88-AFD1-C491DF7E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3DD-9269-4A74-8DAE-EACADCEB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D10-EE88-45D6-B1A2-655EE3B3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8BA-AFB8-4B92-BBA7-BEC63D2B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03B-EAF0-4AF5-B0F9-7C0F0362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551-DF0F-474C-B4DD-A1E1694D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145-DFEF-4934-B361-9B1E0802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73A95FEC-9590-4BBB-9960-485350E7AEA2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year project (March 2006-2009) funded by the European Commission (DG-INFSO), Sixth  Framework Programme, Contract #026642 EXP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ed at 3.9 million 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llaboration: 19 radioastronomy institutes and research and education networks (NRENs) representing 14 countries on 6 conti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 to the central correlator in the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34E-95D3-434E-BA2B-60FFF669C0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feromet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0000" y="841320"/>
            <a:ext cx="8604000" cy="517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E61-3785-48A0-AE77-A185E7052F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-VLBI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VL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recording data and shipping disks to the central processo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port data over networks and correlate i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weeks from the observation &amp; correlati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 problems in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transient events and schedule near-immediate follow-on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3E6-1A9D-4859-8A1B-AF2483DF09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raditional VLBI vs. e-VLBI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1303200"/>
            <a:ext cx="8683560" cy="47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904-CB74-42EB-B125-E5E3B900D3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 Countries, 6 Conti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Astronomy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cibo Observatory, National Astronomy and Ionosphere Center, Cornell University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tralia Telescope National Facility, a Division of CSIRO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Radioastronomy, National Institute for Astrophysics (INAF)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drell Bank Observatory, University of Manchester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Planck Institute for Radio Astronomy (MPIfR),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sähovi Radio Observatory, Helsinki University of Technology (TKK), 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ional Center of Geographical Information, National Geographic Institute (CNIG-IGN)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ebeesthoek Radio Astronomy Observatory, National Research Foundation, 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herlands Foundation for Research in Astronomy (ASTRON), NWO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sala Space Observatory, Chalmers University of Technology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run Centre for Astronomy, Nicolaus Copernicus University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ble Integrated Geodetic Observatory (TIGO), University of Concepción,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tspils International Radio Astronomy Center, Ventspils University College, 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 Research and Education Networks (NRE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RNet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TE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znan Supercomputing and Networking Center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net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0DE-65F4-437B-84AC-955ECA1449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ticipating Telescopes and Network Paths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7913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created by Paul Boven, JIVE. Satellite image: Blue Marble Next Generation courtesy of NASA Visible Earth (visibleearth.nasa.gov). *Logical network path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916-B6FF-4AFA-9521-B19EF3EF9B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Network Dia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130400"/>
            <a:ext cx="6933960" cy="490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01D-9229-4897-80E2-7D461FDBA1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#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F6F-4121-4A16-A851-6751D09C42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VLBI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tronomy technique: Very Long Baseline Interfer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dio telescope looks at an object in the sky and collects data to create an “image” of the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telescopes can view the same object simultaneously.  The distance between the telescopes is the baseline.  The baseline can be compared to building a single telescope with the diameter of this distance (sort o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olution increases with additional telescopes and longer base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nsitivity of the image increases with the data collection rate at the telesc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entral processor decodes, aligns and correlates the data for every possible telescope comb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images of cosmic radio sources with up to a hundred times better resolution than images from the best optical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1F2-705E-4BF2-A489-F4506CBAE5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perture Synthesis Imag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080" y="1219320"/>
            <a:ext cx="7315200" cy="3657600"/>
            <a:chOff x="838080" y="1219320"/>
            <a:chExt cx="7315200" cy="3657600"/>
          </a:xfrm>
        </p:grpSpPr>
        <p:grpSp>
          <p:nvGrpSpPr>
            <p:cNvPr id="97" name=""/>
            <p:cNvGrpSpPr/>
            <p:nvPr/>
          </p:nvGrpSpPr>
          <p:grpSpPr>
            <a:xfrm>
              <a:off x="838080" y="1219320"/>
              <a:ext cx="7315200" cy="3657600"/>
              <a:chOff x="838080" y="1219320"/>
              <a:chExt cx="7315200" cy="3657600"/>
            </a:xfrm>
          </p:grpSpPr>
          <p:pic>
            <p:nvPicPr>
              <p:cNvPr id="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244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80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80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68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56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956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244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"/>
            <p:cNvSpPr/>
            <p:nvPr/>
          </p:nvSpPr>
          <p:spPr>
            <a:xfrm>
              <a:off x="4800600" y="4479840"/>
              <a:ext cx="334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mage Credits: Avruch and Pogrebenk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echnique that uses a number of telescopes to simulate a much larger one.   A larger dish, real or simulated, improves image clarity and brightness.  This requires coordination between the telescopes and a supercomputer.  Consider the examples displaying aperture size, aperture distribution and image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The science of e-VL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72E-8A91-48DC-9B78-2C6C5E64DE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ferometry Makes a Virtual Telescop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4840" y="1257480"/>
            <a:ext cx="87343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45D-5F1D-42BE-805B-A40B756D06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the correlator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, purpose-designed and purpose-buil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sis imaging simulates a very large telescope by measuring Fourier components of sky brightness on each baselin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s, aligns and correlates the data for every possible telescope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N MkIV data processor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silicon, 1024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ata is 1 Gb/s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100 T-operations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C53-0F45-4FD9-9CA3-847391BE1F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7-10-03T11:12:40Z</dcterms:modified>
  <cp:revision>29</cp:revision>
  <dc:subject/>
  <dc:title>Slide 1</dc:title>
</cp:coreProperties>
</file>